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6267-DB46-4CE1-B191-1E04B48D7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23B0-D029-455A-B3A0-A000DD7B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6362-AE69-4E77-9805-A40C8077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14D4-A141-40E6-82C9-A2F3C2D83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ABF3-7CA6-44F0-8B93-F6F741D2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2C91-DF9D-4706-A72A-3C9DE3BCF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AB0C-919B-4ACE-9673-5D8CD410F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D55-58F2-405B-856D-34D1C8FC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B56B-49BA-4F3C-80CF-9574D7EF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97D3-0839-4DCD-B051-508262528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EE5B-5773-42E9-8586-656BB0CAE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DD07-DB4A-47AB-9A34-F954A4D11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CCDE-D6DB-45D3-8DF8-2889754D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2A9F-6ABA-4615-A739-E80251D92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4585-AB49-4242-8C12-315A782B2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F191-517D-424C-9792-077A7838C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ē </a:t>
            </a:r>
            <a:r>
              <a:rPr b="0" lang="en-US" sz="1200" spc="-1" strike="noStrike">
                <a:solidFill>
                  <a:srgbClr val="000000"/>
                </a:solidFill>
                <a:latin typeface="Charis SIL"/>
              </a:rPr>
              <a:t>ȳ </a:t>
            </a:r>
            <a:r>
              <a:rPr b="0" lang="en-US" sz="1200" spc="-1" strike="noStrike">
                <a:solidFill>
                  <a:srgbClr val="000000"/>
                </a:solidFill>
                <a:latin typeface="Charis SIL"/>
                <a:ea typeface="Charis SIL"/>
              </a:rPr>
              <a:t>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5AAC-4C57-4649-9FD7-7D8F59412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ē </a:t>
            </a:r>
            <a:r>
              <a:rPr b="0" lang="en-US" sz="1200" spc="-1" strike="noStrike">
                <a:solidFill>
                  <a:srgbClr val="000000"/>
                </a:solidFill>
                <a:latin typeface="Charis SIL"/>
              </a:rPr>
              <a:t>ȳ </a:t>
            </a:r>
            <a:r>
              <a:rPr b="0" lang="en-US" sz="1200" spc="-1" strike="noStrike">
                <a:solidFill>
                  <a:srgbClr val="000000"/>
                </a:solidFill>
                <a:latin typeface="Charis SIL"/>
                <a:ea typeface="Charis SIL"/>
              </a:rPr>
              <a:t>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ē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g</a:t>
            </a:r>
            <a:r>
              <a:rPr b="0" lang="en-US" sz="1200" spc="-1" strike="noStrike">
                <a:solidFill>
                  <a:srgbClr val="000000"/>
                </a:solidFill>
                <a:latin typeface="Charis SIL"/>
                <a:ea typeface="Charis SIL"/>
              </a:rPr>
              <a:t>ōsi evolved into gee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 Ʒu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23FC-F5B0-4834-813D-555B4460B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cht, K-nis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4379-2E3A-41FB-BE3C-D529EA294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C6D6-D9A7-45DB-8585-3B4B01E85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A5F-7BA9-44D6-B2A3-D4A8B15C4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4335-526C-4739-A8F1-7E8C3569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6FA3-98BE-4414-832C-2DD47006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9E8F-6EB6-4AE5-84F6-DC4D1D371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A768-6CB6-442C-83B2-418C40ED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9B5A-648A-4D61-A513-2287CF4CD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867-78CE-438A-B71C-E6F96F39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8CD8-80C5-4C4D-AEFE-BBBAB5F1D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401C-591E-40B3-89DE-C7BDA52F1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D568-0F55-4F44-81C6-926E672F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8746-B9D0-43D6-A8F8-1CB6D5F88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3F89-79DE-4B0F-861D-9D7B24E8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651A-1C12-49F2-8C6D-0BD531E9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47EE-5B44-44EF-87BA-6D2E8AA1E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E66A-2B9C-42C1-B16A-55233C2FB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ACE4-2C5F-40D3-B381-8189ACA7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6693-801D-4250-8EDA-EF95734C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F369-F27B-428D-83D0-044F34D0C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2B2B-873D-41AF-AB59-7E2794600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00E5-D564-47FE-AA53-F23F929A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00DF-EC0C-4D0F-BB1C-CFC0E0666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282F-2411-416B-B7F4-BC5342347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C2F9-4BCB-416D-BC4A-D3B8BEE3D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: Shell, Shred, Goat,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inavian: Awe, Egg, Sister, Lo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: Nay/No, Raise/Rear, Skin/Hide, Screech/Shr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d: Fast, Murk/Murky, Scr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A533-AF47-4237-92EC-60164F90D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CF6D-D970-480E-9694-184FCCBEE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AAB-AAA2-4250-984B-0564F1659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ening: Flicker, Barn, A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ing: Weed, Weed, 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BEFE-9262-4D4C-A227-DA1A6A30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lioration: Pretty, Fond,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joration: Silly, Crafty, Wen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110-BD97-49E3-9D5E-2BCE0F95C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: Cloud, B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s Marti: God of War  --   Tiw/Tyr: 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s Mercurii: Commerce, Messenger, Trickster  --  Woden: Father, Ruler of the Gods, Poetry, Dead, Learning, Wisdo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s Jovis: Sky God, Lord of Heaven, Thunder, Supreme God   --  Thor: God of Thunder,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s Veneris: Goddess of Love, Desire, Sex   --   Frigga: Mother Goddess, Marriage, L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, Steed, Sta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F3D2-FDBE-418F-BE42-E3ED43D64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4243-7123-428D-95F3-26A11CD41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E807-BA8E-4984-9CD0-BDABAE01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E050-C33E-4B14-A487-D25A645C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0346-B890-45C1-9715-60EB2E14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3EC4-4301-491F-B862-FE852AD72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317A-85EE-47EC-BF72-6B5F6272B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2156-488B-43AA-88E2-950D32D31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0577-A980-48E8-864D-EC036249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39F4-99BE-441E-A0EC-C415714D7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A879-3858-429A-874F-6A042E82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A081-DFC3-4A15-A7AA-16930338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F83F-505A-41E3-B34D-31A71AD7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AD94-646A-4FC7-8AEF-AD17C109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054D-6796-476D-98CC-56C44D0AB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th and complexity of Old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280B-4999-46A8-A4D5-089328132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B1BD-1D33-47A3-B69B-CC1976205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ANY MISTAKES HER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CF84-CD80-4740-A112-2A4918E40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BE7-DCDD-4131-944A-3334200C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183-0CD2-4A15-A973-92192FB7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C3A-D11A-47EC-B9F1-057911C0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BF8-F8F6-425D-A9A5-8AD28DBD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ED62-126C-4DC2-8182-0A86B342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F14A-35FF-4FD6-B11B-74075FF2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49FB-2103-4C6C-9D5A-FA32A19C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6F29-0900-49B2-84E0-50EF1F48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80BB-F4F6-42A5-840B-7EBEE823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0D3F-7D5B-4B0D-A15A-BCFFF69C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B257-51EE-49DB-BBCE-3AD0E93D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20F-6C36-4D7D-BFAA-A87BDAE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B681-A1A0-4721-AA71-44742E9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AB8B-F495-4DA3-BA1D-AE72B368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C3C1-C371-48B4-BA97-3844EB54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EC88-B6B8-4285-B219-0F0A150C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5223-A39A-4261-8F50-F91CE120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744-9416-4F7B-8F83-33908F22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66D-F15C-4DE3-8848-75298110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3CF-5796-42DA-93D3-08254C6B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40E-0026-4774-A3DA-AD996AD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362-9041-4433-96E5-119E4D5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B91-4AE5-4C78-86CF-752C578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BFB-99E1-40F4-BDBF-F52531D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3ACF-0768-4952-BFA4-DCB5566353CD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F60C-4B1C-4546-B1E5-A6CE93D72F1B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paulmeier.com/consonants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The Origins and Development of the English Language Chapter 5: The Old English Period, Part 2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Alg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Che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hengchi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66680" y="1752480"/>
          <a:ext cx="7772400" cy="4373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tw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ð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ðec, þ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, inc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wic, ē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ð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ð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ird person: he, it, she, the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66680" y="1752480"/>
          <a:ext cx="7772400" cy="394668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, hī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, hī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, hī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, hī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ra, he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, he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ology and Orth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066680" y="398520"/>
            <a:ext cx="777240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6964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9246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143000" y="453960"/>
            <a:ext cx="75438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543800" cy="5905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476280" cy="219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tretch/>
        </p:blipFill>
        <p:spPr>
          <a:xfrm>
            <a:off x="533520" y="380880"/>
            <a:ext cx="1904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543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066680" y="355680"/>
            <a:ext cx="75438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Features of Old English: Quick Overview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E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thet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; it uses case endings and other inflections to mark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,v,adj,det, and pronouns all heavily inf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and strong declensions of nouns and ad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and strong conjugations of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c vocab; 85% is no longer in use in M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orm from compounds, prefixing and suffixing; little bor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was grammatical, not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62012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990720" y="341280"/>
            <a:ext cx="75438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5790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where there used to be a front vowel (*banki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701028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from b</a:t>
            </a:r>
            <a:r>
              <a:rPr b="0" lang="en-US" sz="3200" spc="-1" strike="noStrike">
                <a:solidFill>
                  <a:srgbClr val="000000"/>
                </a:solidFill>
                <a:latin typeface="Charis SIL"/>
                <a:ea typeface="Charis SIL"/>
              </a:rPr>
              <a:t>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 = books (lost in M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ēcan from s</a:t>
            </a:r>
            <a:r>
              <a:rPr b="0" lang="en-US" sz="3200" spc="-1" strike="noStrike">
                <a:solidFill>
                  <a:srgbClr val="000000"/>
                </a:solidFill>
                <a:latin typeface="Charis SIL"/>
                <a:ea typeface="Charis SIL"/>
              </a:rPr>
              <a:t>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an = seek as in bes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ylc from swylic = s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ælc from ælic =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ylc from hwylic =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Meier IPA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aulmeier.com/ipachart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a966"/>
                </a:solidFill>
                <a:uFillTx/>
                <a:latin typeface="Times New Roman"/>
                <a:hlinkClick r:id="rId4"/>
              </a:rPr>
              <a:t>http://www.paulmeier.com/consonant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aulmeier.com/vowel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990720" y="392040"/>
            <a:ext cx="777240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(h before vowels and l, r, n </a:t>
            </a:r>
            <a:r>
              <a:rPr b="0" i="1" lang="en-US" sz="2000" spc="-1" strike="noStrike">
                <a:solidFill>
                  <a:srgbClr val="482400"/>
                </a:solidFill>
                <a:latin typeface="Times New Roman"/>
              </a:rPr>
              <a:t>hnappian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, w </a:t>
            </a:r>
            <a:r>
              <a:rPr b="0" i="1" lang="en-US" sz="2000" spc="-1" strike="noStrike">
                <a:solidFill>
                  <a:srgbClr val="482400"/>
                </a:solidFill>
                <a:latin typeface="Times New Roman"/>
              </a:rPr>
              <a:t>hw</a:t>
            </a:r>
            <a:r>
              <a:rPr b="0" i="1" lang="en-US" sz="2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ī</a:t>
            </a:r>
            <a:r>
              <a:rPr b="0" i="1" lang="en-US" sz="2000" spc="-1" strike="noStrike">
                <a:solidFill>
                  <a:srgbClr val="4824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696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nsonants with allophon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990720" y="395280"/>
            <a:ext cx="77724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990720" y="352440"/>
            <a:ext cx="76960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Sounds of Old English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tr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 is pronounced sh, /</a:t>
            </a: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 &gt; d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g is pronounced dj or / </a:t>
            </a: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&gt;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 could be voiced or voic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, gn, kn all pronounced: hwaet, gna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eo, ‘kne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OE Dipthongs (later)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6840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æ: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ēatan ‘bea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6840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e: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ēopan ‘creep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6840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æ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ll ‘all’, geard ‘yard’, sea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s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6840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oh ‘horse’, meolc ‘milk’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0">
              <a:spcBef>
                <a:spcPts val="799"/>
              </a:spcBef>
              <a:buNone/>
              <a:tabLst>
                <a:tab algn="l" pos="0"/>
                <a:tab algn="l" pos="96840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orc ‘work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Practic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752480"/>
          <a:ext cx="7772400" cy="43484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295280"/>
                <a:gridCol w="3124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15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dy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bo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ǣ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  <a:ea typeface="Times New Roman"/>
                        </a:rPr>
                        <a:t>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o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o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Answer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66680" y="1752480"/>
          <a:ext cx="7772400" cy="43484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295280"/>
                <a:gridCol w="3124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15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dy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 j   dizz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bo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     bo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k  cheekb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     had (hav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ǣ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  <a:ea typeface="Times New Roman"/>
                        </a:rPr>
                        <a:t>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wh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o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v  sev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o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    he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ore Practic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1752480"/>
          <a:ext cx="7772400" cy="4354560"/>
        </p:xfrm>
        <a:graphic>
          <a:graphicData uri="http://schemas.openxmlformats.org/drawingml/2006/table">
            <a:tbl>
              <a:tblPr/>
              <a:tblGrid>
                <a:gridCol w="1981440"/>
                <a:gridCol w="1447560"/>
                <a:gridCol w="1524240"/>
                <a:gridCol w="2819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ri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Charis SI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ȳ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  <a:ea typeface="Times New Roman"/>
                        </a:rPr>
                        <a:t>þ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</a:t>
                      </a:r>
                      <a:r>
                        <a:rPr b="0" lang="en-US" sz="2400" spc="-1" strike="noStrike">
                          <a:solidFill>
                            <a:srgbClr val="d20000"/>
                          </a:solidFill>
                          <a:latin typeface="Times New Roman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nswer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66680" y="1752480"/>
          <a:ext cx="7772400" cy="4354560"/>
        </p:xfrm>
        <a:graphic>
          <a:graphicData uri="http://schemas.openxmlformats.org/drawingml/2006/table">
            <a:tbl>
              <a:tblPr/>
              <a:tblGrid>
                <a:gridCol w="1981440"/>
                <a:gridCol w="1447560"/>
                <a:gridCol w="1524240"/>
                <a:gridCol w="2819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 n    to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la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chu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n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n    to gr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ri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Charis SI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ȳ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  <a:ea typeface="Times New Roman"/>
                        </a:rPr>
                        <a:t>þ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 (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ki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</a:t>
                      </a:r>
                      <a:r>
                        <a:rPr b="0" lang="en-US" sz="2400" spc="-1" strike="noStrike">
                          <a:solidFill>
                            <a:srgbClr val="d20000"/>
                          </a:solidFill>
                          <a:latin typeface="Times New Roman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2400" spc="-1" strike="noStrike" u="sng">
                          <a:solidFill>
                            <a:srgbClr val="d20000"/>
                          </a:solidFill>
                          <a:uFillTx/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 j     gr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Identify the following word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1486080" cy="4876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457280" cy="483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154296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143000" y="355680"/>
            <a:ext cx="746748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The Lord's Prayer in Old English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Matthew 6:9-13.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æder ure þu þe eart on heofonum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þin nama gehalg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cume þin ri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wurþe ðin will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eorðan swa swa on heofonum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ne gedæghwamlican hlaf syle us todæ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forgyf us ure gylta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a swa we forgyfað urum gyltendu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ne gelæd þu us on costnung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 alys us of yfele soþ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ur thou that art in heav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thy name h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e thy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-done thy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earth as in hea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daily bread give us 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forgive us our s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we forgive those-who-have-sinned-against-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not lead thou us into tem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deliver us from evil. tru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3276720" y="2362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5"/>
          <a:stretch/>
        </p:blipFill>
        <p:spPr>
          <a:xfrm>
            <a:off x="457200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6"/>
          <a:stretch/>
        </p:blipFill>
        <p:spPr>
          <a:xfrm>
            <a:off x="4800600" y="3124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7"/>
          <a:stretch/>
        </p:blipFill>
        <p:spPr>
          <a:xfrm>
            <a:off x="3733920" y="3657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"/>
          <p:cNvPicPr/>
          <p:nvPr/>
        </p:nvPicPr>
        <p:blipFill>
          <a:blip r:embed="rId8"/>
          <a:stretch/>
        </p:blipFill>
        <p:spPr>
          <a:xfrm>
            <a:off x="2514600" y="41148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9"/>
          <a:stretch/>
        </p:blipFill>
        <p:spPr>
          <a:xfrm>
            <a:off x="4648320" y="4419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"/>
          <p:cNvPicPr/>
          <p:nvPr/>
        </p:nvPicPr>
        <p:blipFill>
          <a:blip r:embed="rId10"/>
          <a:stretch/>
        </p:blipFill>
        <p:spPr>
          <a:xfrm>
            <a:off x="3886200" y="4952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LP-all.wav" descr=""/>
          <p:cNvPicPr/>
          <p:nvPr/>
        </p:nvPicPr>
        <p:blipFill>
          <a:blip r:embed="rId11"/>
          <a:stretch/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7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99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66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95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415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095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02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932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58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10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3487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version of the Lord's Prayer is from Cambridge, Corpus Christi College 140 [WSCp], a translation of the Gospels written in Bath in the first half of the 11th century; edited by Liuzza (1994). Read by Cathy Ball (Department of Linguistics, Georgetown University) for Edward Vanetten's Sunday School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MnE, OE has high, front, rounded vow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rre, ‘ang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stig, ‘stormy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066680" y="366840"/>
            <a:ext cx="777240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66680" y="393840"/>
            <a:ext cx="769644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772400" cy="571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7238880" y="2895480"/>
            <a:ext cx="7239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66680" y="431640"/>
            <a:ext cx="7696440" cy="5207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1440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half of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entury, better educated clergy, built new churches, established schools, copying of English and Latin manuscr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OE Gender is Grammatical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f, ne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n, mascu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fmann, ‘woman,’ is mascu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gender begins replacing grammatical gender as inflections are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7151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84836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OE Inflection: The Cases of Noun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i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s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Exercise: OE Affixes</a:t>
            </a:r>
            <a:br>
              <a:rPr sz="4000"/>
            </a:b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Using your knowledge of OE affixes, figure out the meaning of these OE words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371600" y="1662120"/>
            <a:ext cx="52578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2214720" y="1752480"/>
            <a:ext cx="547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2212920" y="1752480"/>
            <a:ext cx="548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4952880" cy="4829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2841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A simple OE noun declension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for 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fisc, 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‘fish’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in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us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a/fisc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Adjectives have declensions too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good man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66680" y="1752480"/>
          <a:ext cx="7772400" cy="3429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in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 g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us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n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es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ra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um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um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OE Personal Pronou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tw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, m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, unc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ic, 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ī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, 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2:24:35Z</dcterms:created>
  <dc:creator>M Cheng</dc:creator>
  <dc:description/>
  <dc:language>en-US</dc:language>
  <cp:lastModifiedBy>Michael Cheng</cp:lastModifiedBy>
  <dcterms:modified xsi:type="dcterms:W3CDTF">2015-04-10T00:38:43Z</dcterms:modified>
  <cp:revision>28</cp:revision>
  <dc:subject/>
  <dc:title>The Origins and Development of the English Language Chapter 5: The Old English Period, Part 2</dc:title>
</cp:coreProperties>
</file>